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47" end="5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32A-6F7A-43DB-AD36-0BEF14A2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EFF-2AD5-4FEC-9FEE-F710B910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E69-FA6E-4059-A1FE-FA8F6E3F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71A-5F6F-41A6-B9F6-46179560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A0C-7431-481B-86BE-17DD1F48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609-B3D1-4DCC-83FC-A4EA1C40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38C-9CFB-4332-BB28-A89158E3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7D0-6386-4EFC-B7A2-D862DBD5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AD0-4599-4C85-89FA-23CD88D5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B7B-CABE-4148-B73E-4CB4B4C0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07D-7496-45F8-9E9E-0D9AD07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E69-FF09-4EB0-AE19-868B7ABC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B3DF-DAB3-4CFC-9967-2AAAD2D211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01.r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A18-9EB6-4107-AF95-DA406D4DFE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444-3C71-432C-8E1F-0B0C013335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ews of Dis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CF6-BA46-4C3D-9D28-F31BE0BBF7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in doing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做某事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2160" y="3352680"/>
            <a:ext cx="629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s may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have difficulty i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v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466-181A-4374-B63D-093F8D83EE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with sth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在某方面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(much/great) difficulty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困难地，费劲地，吃力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轻易地，不费事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267080"/>
            <a:ext cx="46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1A4-B92A-469E-BA7B-017358E378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managed to calm h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great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’ll find the plac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ny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4960" y="2057400"/>
            <a:ext cx="6166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don’t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have much difficul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English gramm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595-D9CC-4B6C-B951-965A1A597B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3352680"/>
            <a:ext cx="736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is probable that one day we wi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end up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D36-3104-4F46-8886-7F0A82F3BA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278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59276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with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start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our dinn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ou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up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1080" y="259092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gi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590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art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79FB-5323-4A37-9F9A-9C6208D200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in /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的结局是…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成为…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thief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 up 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i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 up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0D4-C03F-4F89-95E7-A2BBDA0939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that something is true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7400" y="3352680"/>
            <a:ext cx="7224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me people …,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consi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g t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to b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up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275-50A8-4FA0-A421-793B1AE1AC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…(as/ to be)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看作，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We a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ofessor Zh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anshan (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/to b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a great doct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ome scientis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controlled very s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BE5-878A-4644-BEC4-EBD7F3DB20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know more about 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ver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982-6F37-4E93-A391-7B7916B660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carefully about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考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n she sat down to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r posi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6000" y="4191120"/>
            <a:ext cx="6447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a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considering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ine when I go to colle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4C2-256E-42D3-BF44-AC1901B64F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2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all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称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240" y="3429000"/>
            <a:ext cx="789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ce, people would often be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ref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to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“deaf” or “blind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EA7-FB08-4E60-8472-E942A8AA8E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ll his fellow studen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im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“the living Lei Feng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2360" y="4038480"/>
            <a:ext cx="633456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is referred to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“the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i Feng” by all his fe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udent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141-DBCD-4692-8972-0AABC4378A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ook at for informati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查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参阅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can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is book no matter what information you nee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2FC-4E5B-4BDC-AC4D-9A64433414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be used to mean some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指的是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y “Teacher” 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person who supplies us with knowled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0F4-7C1E-46B7-9814-4DB196C50B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mention or speak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提到，谈到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2200" y="4191120"/>
            <a:ext cx="7253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y sister often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refers to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in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C4D-6C39-4538-AB06-D3050E9527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a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又、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should provide an entrance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ff"/>
                </a:solidFill>
                <a:latin typeface="Times New Roman"/>
              </a:rPr>
              <a:t>as well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lifts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840" y="4724280"/>
            <a:ext cx="637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can speak English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as well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r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6CD-DC79-4C71-AFE4-C8F7F9FC76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也、还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can ride a horse. And she 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oo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well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5480" y="4343400"/>
            <a:ext cx="67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know you like English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as w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40E-1CEA-489C-8996-57117304E6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  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E12-5E53-4155-9AE8-B4EEB2DCDF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_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6A3-2185-47D3-9204-3D3B6603E7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6E3-CE93-44F1-814F-644ED6A056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A71-1C47-40CF-B747-A97CBB2539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C1E-7513-4A79-BCC4-1D40192A78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783-2302-4EF0-ABE2-778F798731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0B7-D798-456E-990C-99C314BAFE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08A-F840-4F91-B1EC-06300EF0F9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17D-BDC2-47CE-9699-2BFE08C3F2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F34-029F-4884-84C3-2C1ECC1045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5BE-D807-4AF4-8AE3-9DF97E2DD8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EC4-7F21-4FBA-8CAE-615DCE4D7F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956-D0CF-42AB-903C-03AC0E06CB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1AD-087F-4B3A-85B7-147A2CDA91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ne 1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n a lecture hall of a univers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England sits a profess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22B-47FF-4B7A-BB4D-1C85FE93C32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 professor sits in a lecture 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a university in Eng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876-F838-4B23-9C68-9C63D806E76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4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Not only does he have to ty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t 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DE9-7057-4A20-8B96-4CCCF0A6F1A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not only has to ty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AC6-90DB-4891-AAE9-6A2E7713AD0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Line 3, Paragraph 3, Page 46)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t only will help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16B-D12B-4DE1-BD41-D35E758A7E7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t only will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B5E-ECC8-4A19-A1F8-C21F13DDC50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句子的正常语序应该是主语在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谓语在其后。但是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99ff"/>
                </a:solidFill>
                <a:latin typeface="Times New Roman"/>
              </a:rPr>
              <a:t>由于语法、修辞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强调或句子结构上的需要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而把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的谓语放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样就构成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主、谓语顺序颠倒的句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种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就叫做</a:t>
            </a:r>
            <a:r>
              <a:rPr b="0" lang="zh-CN" sz="3200" spc="-1" strike="noStrike">
                <a:solidFill>
                  <a:srgbClr val="ff66ff"/>
                </a:solidFill>
                <a:latin typeface="宋体"/>
              </a:rPr>
              <a:t>倒装句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0F5-28DB-4CCF-A0B5-1C797B11FDA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句子的全部谓语都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完全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只是部分谓语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也即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助动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或情态动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分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252-77AD-44F7-8904-90C7D9ECFB1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re comes the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ere goes the b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A37-8536-4CC4-B977-4745CD63668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但如果主语是人称代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无需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e he comes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re it 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C70-298D-4AFE-975B-92E9DCE0510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95C-C82F-424F-99D3-3D74376A88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例句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in her own room can s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eel sa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CFB-1D1A-4172-B298-CADFF18B002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当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not only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副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介词短语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状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等结构位于句首时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需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部分倒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48D-8647-4B35-9273-049DD70A0F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6, Paragraph 4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people will learn abo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 only when they go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same schools as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5DA-4CB2-4809-B5CD-4F4C95F30C1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when they go to the s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chools as people with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will young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 about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E00-483D-4508-95B0-B398DD5F752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nly with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9FA-7FA0-46B5-8A2A-B6C2DF5B5CD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nly with hard wor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CF3-E3CB-42C2-A26D-69CFCC1892B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4---Page 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ord Formation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2---Page 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1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196-B190-412E-B4F1-8B72107FAA8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riting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xercise 3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FBB-606D-4C03-8DF8-57F5F9ACD2D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http://211.153.43.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 www.bjedu.gov.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709-15B9-4778-A3C2-805BAE302E9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82C-B3DC-430D-B7F7-1DC1BD1CEC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237-F0B8-4C2C-AC26-52B8A6BE0D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DC4-CFD6-4F95-A5CF-1C3409F1B4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950-6582-4F85-96BD-0538D413B8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01:00:56Z</dcterms:created>
  <dc:creator>BJ4HS</dc:creator>
  <dc:description/>
  <dc:language>en-US</dc:language>
  <cp:lastModifiedBy>Zhang Lingdi</cp:lastModifiedBy>
  <dcterms:modified xsi:type="dcterms:W3CDTF">2003-06-03T06:42:55Z</dcterms:modified>
  <cp:revision>206</cp:revision>
  <dc:subject/>
  <dc:title>Reading Comprehension </dc:title>
</cp:coreProperties>
</file>